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87" name="Picture 12" descr="footer_nackt_neu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9753480"/>
            <a:ext cx="6805440" cy="193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00120" y="4970520"/>
            <a:ext cx="552456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3"/>
          </p:nvPr>
        </p:nvSpPr>
        <p:spPr>
          <a:xfrm>
            <a:off x="0" y="9734040"/>
            <a:ext cx="4819680" cy="195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1692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de-DE" sz="9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de-DE" sz="900" spc="-1" strike="noStrike">
                <a:solidFill>
                  <a:srgbClr val="333333"/>
                </a:solidFill>
                <a:latin typeface="Times New Roman"/>
              </a:rPr>
              <a:t>Department     Titel of Presentation (CorpoS, 10pt),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4"/>
          </p:nvPr>
        </p:nvSpPr>
        <p:spPr>
          <a:xfrm>
            <a:off x="5369040" y="9734040"/>
            <a:ext cx="1428480" cy="195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1692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de-DE" sz="9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605D6D-35B4-4E63-9676-0CAE0BE00969}" type="slidenum">
              <a:rPr b="0" lang="de-DE" sz="9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0" y="0"/>
            <a:ext cx="6805440" cy="668160"/>
            <a:chOff x="0" y="0"/>
            <a:chExt cx="6805440" cy="668160"/>
          </a:xfrm>
        </p:grpSpPr>
        <p:pic>
          <p:nvPicPr>
            <p:cNvPr id="92" name="Picture 16" descr="header_plain"/>
            <p:cNvPicPr/>
            <p:nvPr/>
          </p:nvPicPr>
          <p:blipFill>
            <a:blip r:embed="rId3"/>
            <a:srcRect l="0" t="0" r="3999" b="0"/>
            <a:stretch/>
          </p:blipFill>
          <p:spPr>
            <a:xfrm>
              <a:off x="0" y="0"/>
              <a:ext cx="680544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7" descr="MB 4_WHITE_ASYMETBM_ppt"/>
            <p:cNvPicPr/>
            <p:nvPr/>
          </p:nvPicPr>
          <p:blipFill>
            <a:blip r:embed="rId4"/>
            <a:stretch/>
          </p:blipFill>
          <p:spPr>
            <a:xfrm>
              <a:off x="690840" y="158760"/>
              <a:ext cx="218664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4"/>
          <p:cNvSpPr>
            <a:spLocks noGrp="1"/>
          </p:cNvSpPr>
          <p:nvPr>
            <p:ph type="sldImg"/>
          </p:nvPr>
        </p:nvSpPr>
        <p:spPr>
          <a:xfrm>
            <a:off x="568080" y="99324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CorpoA"/>
              </a:rPr>
              <a:t>Click to move the slide</a:t>
            </a: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369040" y="9734400"/>
            <a:ext cx="14284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1692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AE27B9-DAC2-445C-9717-E62E745EC185}" type="slidenum">
              <a:rPr b="0" lang="de-DE" sz="900" spc="-1" strike="noStrike">
                <a:solidFill>
                  <a:srgbClr val="333333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687240" y="993600"/>
            <a:ext cx="4969080" cy="37278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38280" y="5122800"/>
            <a:ext cx="55260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999999"/>
              </a:solidFill>
              <a:latin typeface="Corpo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369040" y="9734400"/>
            <a:ext cx="14284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16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0CB1C-DCBF-4BE5-82F8-9C2C37D72744}" type="slidenum">
              <a:rPr b="0" lang="en-US" sz="1300" spc="-1" strike="noStrike">
                <a:solidFill>
                  <a:srgbClr val="999999"/>
                </a:solidFill>
                <a:latin typeface="Times New Roman"/>
                <a:ea typeface="Angsana New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71960" cy="37306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06120" y="4718160"/>
            <a:ext cx="4992840" cy="4481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Originally planned for </a:t>
            </a:r>
            <a:r>
              <a:rPr b="1" lang="en-US" sz="1100" spc="-1" strike="noStrike">
                <a:solidFill>
                  <a:srgbClr val="ff0101"/>
                </a:solidFill>
                <a:latin typeface="CorpoS"/>
                <a:ea typeface="PMingLiU"/>
              </a:rPr>
              <a:t>Reason 2006: PRC only!!!</a:t>
            </a:r>
            <a:endParaRPr b="0" lang="en-US" sz="1100" spc="-1" strike="noStrike">
              <a:solidFill>
                <a:srgbClr val="999999"/>
              </a:solidFill>
              <a:latin typeface="CorpoS"/>
            </a:endParaRPr>
          </a:p>
          <a:p>
            <a:pPr indent="0" algn="ctr">
              <a:lnSpc>
                <a:spcPct val="85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101"/>
                </a:solidFill>
                <a:latin typeface="CorpoS"/>
                <a:ea typeface="PMingLiU"/>
              </a:rPr>
              <a:t>Hong Kong 2005</a:t>
            </a:r>
            <a:endParaRPr b="0" lang="en-US" sz="1100" spc="-1" strike="noStrike">
              <a:solidFill>
                <a:srgbClr val="999999"/>
              </a:solidFill>
              <a:latin typeface="CorpoS"/>
            </a:endParaRPr>
          </a:p>
          <a:p>
            <a:pPr indent="0" algn="ctr">
              <a:lnSpc>
                <a:spcPct val="85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999999"/>
              </a:solidFill>
              <a:latin typeface="CorpoS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Required steps for product demonstration:</a:t>
            </a:r>
            <a:br>
              <a:rPr sz="1200"/>
            </a:b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- 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Pre-defined vehicle presentation</a:t>
            </a:r>
            <a:br>
              <a:rPr sz="1200"/>
            </a:b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- 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Explanation of vehicle benefits according to customer</a:t>
            </a:r>
            <a:br>
              <a:rPr sz="1200"/>
            </a:b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needs</a:t>
            </a:r>
            <a:br>
              <a:rPr sz="1200"/>
            </a:b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- 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Test drive</a:t>
            </a:r>
            <a:br>
              <a:rPr sz="1200"/>
            </a:b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- 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Reinforce benefits to customers</a:t>
            </a:r>
            <a:br>
              <a:rPr sz="1200"/>
            </a:b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- 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Test drives are offered to customers within five working 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days</a:t>
            </a:r>
            <a:br>
              <a:rPr sz="1200"/>
            </a:b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- 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Customer feedback is obtained after the test drive and 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999999"/>
                </a:solidFill>
                <a:latin typeface="CorpoS"/>
                <a:ea typeface="PMingLiU"/>
              </a:rPr>
              <a:t>recorded in the customer database/DMS.</a:t>
            </a:r>
            <a:endParaRPr b="0" lang="en-US" sz="1200" spc="-1" strike="noStrike">
              <a:solidFill>
                <a:srgbClr val="999999"/>
              </a:solidFill>
              <a:latin typeface="CorpoS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9999"/>
              </a:solidFill>
              <a:latin typeface="Corpo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1455-CB8E-47BE-8A07-B367647F0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7578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00280" y="4321440"/>
            <a:ext cx="7578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D92A6-9766-4B5F-AAE8-26CB2DAFD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96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0280" y="432144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960" y="432144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F30A-35E5-416D-AA64-F6F34799E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2760" y="213336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5240" y="213336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00280" y="432144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2760" y="432144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5240" y="432144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31B70-B52B-4206-9444-CA79714A0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00280" y="2133360"/>
            <a:ext cx="75787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75787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36982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3960" y="2133360"/>
            <a:ext cx="36982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00280" y="1447560"/>
            <a:ext cx="757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960" y="2133360"/>
            <a:ext cx="36982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00280" y="432144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00280" y="2133360"/>
            <a:ext cx="75787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0C26-7CA5-4B8B-9672-A4626C4C0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36982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96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960" y="432144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96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00280" y="4321440"/>
            <a:ext cx="7578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7578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00280" y="4321440"/>
            <a:ext cx="7578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96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0280" y="432144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960" y="432144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2760" y="213336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25240" y="213336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00280" y="432144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2760" y="432144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25240" y="4321440"/>
            <a:ext cx="24400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75787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8963F-E892-4928-8C30-A3FC1D801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36982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960" y="2133360"/>
            <a:ext cx="36982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740C-BB7D-4E6D-9CCC-CB8488278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43B70-18EE-4F7A-B021-FD0A91686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00280" y="1447560"/>
            <a:ext cx="757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DAAD8-E12A-48B6-8442-9FC0B90F5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960" y="2133360"/>
            <a:ext cx="36982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00280" y="432144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72BD6-1DF0-404C-96CA-73A0DE11D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36982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96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960" y="432144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50CEB-ECD3-4C12-A47E-FF88E4526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960" y="2133360"/>
            <a:ext cx="36982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00280" y="4321440"/>
            <a:ext cx="75787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77139-93FB-4259-B9B8-1744D4CB6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7" descr="footer_nackt_neu"/>
          <p:cNvPicPr/>
          <p:nvPr/>
        </p:nvPicPr>
        <p:blipFill>
          <a:blip r:embed="rId2"/>
          <a:srcRect l="0" t="0" r="4033" b="0"/>
          <a:stretch/>
        </p:blipFill>
        <p:spPr>
          <a:xfrm>
            <a:off x="0" y="6600960"/>
            <a:ext cx="9140760" cy="257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0280" y="2133360"/>
            <a:ext cx="75787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61800" indent="-180720">
              <a:spcBef>
                <a:spcPts val="499"/>
              </a:spcBef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714240" indent="-172800">
              <a:spcBef>
                <a:spcPts val="49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1076400" indent="-181080">
              <a:spcBef>
                <a:spcPts val="499"/>
              </a:spcBef>
              <a:buClr>
                <a:srgbClr val="000000"/>
              </a:buClr>
              <a:buFont typeface="Corpo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1447920" indent="-181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1447920" indent="-181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1447920" indent="-181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Rectangle 34"/>
          <p:cNvSpPr/>
          <p:nvPr/>
        </p:nvSpPr>
        <p:spPr>
          <a:xfrm>
            <a:off x="7194600" y="6607080"/>
            <a:ext cx="1914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rpoS"/>
              </a:rPr>
              <a:t>Mercedes-Benz (Thailand) Limited </a:t>
            </a:r>
            <a:endParaRPr b="0" lang="en-US" sz="1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Rectangle 35"/>
          <p:cNvSpPr/>
          <p:nvPr/>
        </p:nvSpPr>
        <p:spPr>
          <a:xfrm>
            <a:off x="3832200" y="6610320"/>
            <a:ext cx="4467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72720" y="6616800"/>
            <a:ext cx="2552760" cy="241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ealership Standards Handbook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5"/>
          <p:cNvSpPr/>
          <p:nvPr/>
        </p:nvSpPr>
        <p:spPr>
          <a:xfrm>
            <a:off x="3832200" y="6600960"/>
            <a:ext cx="216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7" name="Picture 68" descr="mb_ppt4zu3_v2_Inhalt"/>
          <p:cNvPicPr/>
          <p:nvPr/>
        </p:nvPicPr>
        <p:blipFill>
          <a:blip r:embed="rId3"/>
          <a:stretch/>
        </p:blipFill>
        <p:spPr>
          <a:xfrm>
            <a:off x="0" y="0"/>
            <a:ext cx="9140760" cy="882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3604680" y="6622560"/>
            <a:ext cx="2435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ngsana New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Page: </a:t>
            </a:r>
            <a:fld id="{0F58D472-AFEF-459F-B4A1-7958210C27F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of 1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8" descr="footer_nackt_neu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6600960"/>
            <a:ext cx="9144000" cy="25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1" descr="titel_hintergrund_neu"/>
          <p:cNvPicPr/>
          <p:nvPr/>
        </p:nvPicPr>
        <p:blipFill>
          <a:blip r:embed="rId3"/>
          <a:stretch/>
        </p:blipFill>
        <p:spPr>
          <a:xfrm>
            <a:off x="0" y="853920"/>
            <a:ext cx="9144000" cy="575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8" descr="mb_ppt4zu3_v2_Inhalt"/>
          <p:cNvPicPr/>
          <p:nvPr/>
        </p:nvPicPr>
        <p:blipFill>
          <a:blip r:embed="rId4"/>
          <a:stretch/>
        </p:blipFill>
        <p:spPr>
          <a:xfrm>
            <a:off x="0" y="0"/>
            <a:ext cx="9140760" cy="882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26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00280" y="2133360"/>
            <a:ext cx="75787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61800" indent="-180720">
              <a:spcBef>
                <a:spcPts val="499"/>
              </a:spcBef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714240" indent="-172800">
              <a:spcBef>
                <a:spcPts val="49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1076400" indent="-181080">
              <a:spcBef>
                <a:spcPts val="499"/>
              </a:spcBef>
              <a:buClr>
                <a:srgbClr val="000000"/>
              </a:buClr>
              <a:buFont typeface="Corpo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1447920" indent="-181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1447920" indent="-181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1447920" indent="-181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38120" y="4078440"/>
            <a:ext cx="81565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1260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rpoA"/>
              </a:rPr>
              <a:t>Dealership Standards Handbook – </a:t>
            </a:r>
            <a:r>
              <a:rPr b="0" i="1" lang="de-DE" sz="2400" spc="-1" strike="noStrike">
                <a:solidFill>
                  <a:srgbClr val="000000"/>
                </a:solidFill>
                <a:latin typeface="CorpoA"/>
              </a:rPr>
              <a:t>English Version</a:t>
            </a:r>
            <a:r>
              <a:rPr b="0" lang="de-DE" sz="2800" spc="-1" strike="noStrike">
                <a:solidFill>
                  <a:srgbClr val="000000"/>
                </a:solidFill>
                <a:latin typeface="CorpoA"/>
              </a:rPr>
              <a:t>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CorpoA"/>
              </a:rPr>
              <a:t>Mercedes-Benz Passenger Vehicles</a:t>
            </a:r>
            <a:br>
              <a:rPr sz="2900"/>
            </a:b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99960" y="6205320"/>
            <a:ext cx="870588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54000" bIns="46800" anchor="ctr">
            <a:spAutoFit/>
          </a:bodyPr>
          <a:p>
            <a:pPr algn="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rpoS"/>
              </a:rPr>
              <a:t>Mercedes-Benz (Thailand) Limited</a:t>
            </a:r>
            <a:r>
              <a:rPr b="0" lang="de-DE" sz="1400" spc="-1" strike="noStrike">
                <a:solidFill>
                  <a:srgbClr val="000000"/>
                </a:solidFill>
                <a:latin typeface="CorpoS"/>
              </a:rPr>
              <a:t> </a:t>
            </a:r>
            <a:br>
              <a:rPr sz="1400"/>
            </a:br>
            <a:r>
              <a:rPr b="0" lang="de-DE" sz="1300" spc="-1" strike="noStrike">
                <a:solidFill>
                  <a:srgbClr val="000000"/>
                </a:solidFill>
                <a:latin typeface="CorpoS"/>
              </a:rPr>
              <a:t>Business &amp; NetworkDevelopment</a:t>
            </a:r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97" name="Picture 4" descr="C-Class"/>
          <p:cNvPicPr/>
          <p:nvPr/>
        </p:nvPicPr>
        <p:blipFill>
          <a:blip r:embed="rId1"/>
          <a:stretch/>
        </p:blipFill>
        <p:spPr>
          <a:xfrm>
            <a:off x="0" y="901800"/>
            <a:ext cx="9144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8960" y="453960"/>
            <a:ext cx="4538520" cy="287280"/>
          </a:xfrm>
          <a:prstGeom prst="rect">
            <a:avLst/>
          </a:prstGeom>
          <a:noFill/>
          <a:ln w="0">
            <a:noFill/>
          </a:ln>
        </p:spPr>
        <p:txBody>
          <a:bodyPr lIns="0" tIns="1260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cs typeface="PMingLiU"/>
              </a:rPr>
              <a:t>ผู้จำหน่าย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PMingLiU"/>
              </a:rPr>
              <a:t>ต้อง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cs typeface="PMingLiU"/>
              </a:rPr>
              <a:t>มีการทำธุรกิจรถใช้แล้ว</a:t>
            </a:r>
            <a:endParaRPr b="0" lang="en-US" sz="2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703760" y="135000"/>
            <a:ext cx="4262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rpoS"/>
                <a:ea typeface="PMingLiU"/>
              </a:rPr>
              <a:t>F 2.1 Used Vehicle Business 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85760" y="1751040"/>
            <a:ext cx="422748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1)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ngsana New"/>
                <a:cs typeface="PMingLiU"/>
              </a:rPr>
              <a:t>ต้องได้ตามมาตรฐาน</a:t>
            </a:r>
            <a:r>
              <a:rPr b="1" lang="th-TH" sz="1600" spc="-1" strike="noStrike">
                <a:solidFill>
                  <a:srgbClr val="ff3300"/>
                </a:solidFill>
                <a:latin typeface="Angsana New"/>
                <a:cs typeface="PMingLiU"/>
              </a:rPr>
              <a:t>ของรถ</a:t>
            </a:r>
            <a:r>
              <a:rPr b="1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ProvenExclusivity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buClr>
                <a:srgbClr val="000000"/>
              </a:buClr>
              <a:buFont typeface="Angsana New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  <a:cs typeface="PMingLiU"/>
              </a:rPr>
              <a:t>มีขั้นตอนการประเมินมูลค่ารถใช้แล้วที่กำหนดโดย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บริษัทเมอร์เซเดส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-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PMingLiU"/>
              </a:rPr>
              <a:t>เบนซ์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(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PMingLiU"/>
              </a:rPr>
              <a:t>ประเทศไทย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)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PMingLiU"/>
              </a:rPr>
              <a:t>จำกัด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ไว้ใช้และมีไว้สำหรับลูกค้า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buClr>
                <a:srgbClr val="ff3300"/>
              </a:buClr>
              <a:buFont typeface="Angsana New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3300"/>
                </a:solidFill>
                <a:latin typeface="Angsana New"/>
                <a:cs typeface="PMingLiU"/>
              </a:rPr>
              <a:t>ผู้จำหน่ายส่งรายงานกิจกรรมการซื้อ ขายรถใช้แล้ว มาที่ บริษัทเมอร์เซเดส</a:t>
            </a:r>
            <a:r>
              <a:rPr b="1" lang="th-TH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-</a:t>
            </a:r>
            <a:r>
              <a:rPr b="1" lang="th-TH" sz="1600" spc="-1" strike="noStrike">
                <a:solidFill>
                  <a:srgbClr val="ff3300"/>
                </a:solidFill>
                <a:latin typeface="Angsana New"/>
                <a:cs typeface="PMingLiU"/>
              </a:rPr>
              <a:t>เบนซ์</a:t>
            </a:r>
            <a:r>
              <a:rPr b="1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 </a:t>
            </a:r>
            <a:r>
              <a:rPr b="1" lang="th-TH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(</a:t>
            </a:r>
            <a:r>
              <a:rPr b="1" lang="th-TH" sz="1600" spc="-1" strike="noStrike">
                <a:solidFill>
                  <a:srgbClr val="ff3300"/>
                </a:solidFill>
                <a:latin typeface="Angsana New"/>
                <a:cs typeface="PMingLiU"/>
              </a:rPr>
              <a:t>ประเทศไทย</a:t>
            </a:r>
            <a:r>
              <a:rPr b="1" lang="th-TH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) </a:t>
            </a:r>
            <a:r>
              <a:rPr b="1" lang="th-TH" sz="1600" spc="-1" strike="noStrike">
                <a:solidFill>
                  <a:srgbClr val="ff3300"/>
                </a:solidFill>
                <a:latin typeface="Angsana New"/>
                <a:cs typeface="PMingLiU"/>
              </a:rPr>
              <a:t>ผ่านทาง</a:t>
            </a:r>
            <a:r>
              <a:rPr b="1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www.benzproven.com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buClr>
                <a:srgbClr val="000000"/>
              </a:buClr>
              <a:buFont typeface="Angsana New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PMingLiU"/>
              </a:rPr>
              <a:t>แต่ละโชว์รูมจะต้องมีเจ้าหน้าที่ ที่รับผิดชอบธุรกิจรถมือสอง 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ProvenExclusivity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buClr>
                <a:srgbClr val="000000"/>
              </a:buClr>
              <a:buFont typeface="Angsana New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buClr>
                <a:srgbClr val="000000"/>
              </a:buClr>
              <a:buFont typeface="Angsana New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437000" y="1681200"/>
            <a:ext cx="4707000" cy="73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มายเหตุ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: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้จำหน่ายทุกรายจะต้องมี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ProvenExclusivity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ั้งแต่ปี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013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ต้นไป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าตรฐานข้อนี้ถือว่าผ่านเมื่อผู้จำหน่ายเริ่มดำเนินธุรกิจแล้วเท่านั้น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ngsana New"/>
              <a:buAutoNum type="arabicParenR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รวจสอบรายการตามนี้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1.1) 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cs typeface="Angsana New"/>
              </a:rPr>
              <a:t>เครื่องมือการตลาด 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ea typeface="Angsana New"/>
              </a:rPr>
              <a:t>(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cs typeface="Angsana New"/>
              </a:rPr>
              <a:t>ตย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ea typeface="Angsana New"/>
              </a:rPr>
              <a:t>. 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cs typeface="Angsana New"/>
              </a:rPr>
              <a:t>กล่องไฟ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ea typeface="Angsana New"/>
              </a:rPr>
              <a:t>,</a:t>
            </a:r>
            <a:r>
              <a:rPr b="0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 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cs typeface="Angsana New"/>
              </a:rPr>
              <a:t>แผ่นป้ายทะเบียน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ea typeface="Angsana New"/>
              </a:rPr>
              <a:t>,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cs typeface="Angsana New"/>
              </a:rPr>
              <a:t>ใบราคารถยนต์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ea typeface="Angsana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1.2)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ภาพของรถยนต์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รวจสอบโดยการสุ่มรถยนต์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PE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ำนวน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2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ัน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-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ถยนต์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PE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้องมีอายุไม่เกิน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8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ี และระยะทางวิ่งมาไม่เกิน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150,000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ม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-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ถยนต์จอดโชว์สะอาด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,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ภายใน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,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ภายนอก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,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้องเครื่อง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-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น้ำมันเชื้อเพลิงไม่น้อยกว่าครึ่งถัง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-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ม่มีข้อความความผิดปรกติติดโชว์ 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-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ม่มีข้อความเตือนนำรถเข้าบำรุงรักษาติดโชว์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- 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ร้อมติดเครื่องยนต์ได้ทันที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ea typeface="Angsana New"/>
              </a:rPr>
              <a:t>1.3</a:t>
            </a:r>
            <a:r>
              <a:rPr b="0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)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ea typeface="Angsana New"/>
              </a:rPr>
              <a:t> 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cs typeface="Angsana New"/>
              </a:rPr>
              <a:t>ใบอนุญาตค้าของเก่า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ngsana New"/>
              <a:buAutoNum type="arabicParenR" startAt="2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รวจสอบใบประเมินราคารถยนต์ใช้แล้ว และ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multipoint check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See file </a:t>
            </a:r>
            <a:r>
              <a:rPr b="0" i="1" lang="en-US" sz="1600" spc="-1" strike="noStrike">
                <a:solidFill>
                  <a:srgbClr val="ff3300"/>
                </a:solidFill>
                <a:latin typeface="Angsana New"/>
                <a:ea typeface="Angsana New"/>
              </a:rPr>
              <a:t>F2.1_ Evaluation form and multipoint check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           </a:t>
            </a:r>
            <a:r>
              <a:rPr b="0" i="1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F2.1_ ProvenExclusivity standard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Angsana New"/>
              <a:buAutoNum type="arabicParenR" startAt="3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Angsana New"/>
                <a:cs typeface="Angsana New"/>
              </a:rPr>
              <a:t>รถยนต์</a:t>
            </a:r>
            <a:r>
              <a:rPr b="0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Demo car 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cs typeface="PMingLiU"/>
              </a:rPr>
              <a:t>ที่ได้รับการอนุญาตขาย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ea typeface="Angsana New"/>
              </a:rPr>
              <a:t> และรถยนต์ในโปรแกรม</a:t>
            </a:r>
            <a:r>
              <a:rPr b="0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ProvenExclusivity 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cs typeface="Angsana New"/>
              </a:rPr>
              <a:t>ต้องถูกบันทึกลงใน</a:t>
            </a:r>
            <a:r>
              <a:rPr b="0" lang="en-US" sz="1600" spc="-1" strike="noStrike">
                <a:solidFill>
                  <a:srgbClr val="ff3300"/>
                </a:solidFill>
                <a:latin typeface="Angsana New"/>
                <a:ea typeface="PMingLiU"/>
              </a:rPr>
              <a:t>Website: www.Benzproven.com</a:t>
            </a:r>
            <a:r>
              <a:rPr b="0" lang="th-TH" sz="1600" spc="-1" strike="noStrike">
                <a:solidFill>
                  <a:srgbClr val="ff3300"/>
                </a:solidFill>
                <a:latin typeface="Angsana New"/>
                <a:cs typeface="Angsana New"/>
              </a:rPr>
              <a:t>ตามมาตรฐา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4)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้ทำหน้าที่รับผิดชอบธุรกิจรถมือสอง สามารถเป็นคนเดียวกับผู้จัดการฝ่ายขายรถใหม่  หรือพนักงานในฝ่ายขายเท่านั้น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79280" y="4660920"/>
            <a:ext cx="3592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87480" indent="-87480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้จำหน่ายจัดเตรียมล่วงหน้า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บประเมินราคารถยนต์ใช้แล้ว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Multipoint Check Li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-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ังองค์กรและคำบรรยายลักษณะงาน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0" y="5943600"/>
            <a:ext cx="41958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87480" indent="-87480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MBTh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ัดเตรียมล่วงหน้า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-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ายงานการสรุปการขายรถยนต์ ประจำเดือน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PMingLiU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1"/>
          <a:stretch/>
        </p:blipFill>
        <p:spPr>
          <a:xfrm>
            <a:off x="5003640" y="4869000"/>
            <a:ext cx="247680" cy="263520"/>
          </a:xfrm>
          <a:prstGeom prst="rect">
            <a:avLst/>
          </a:prstGeom>
          <a:ln w="0">
            <a:noFill/>
          </a:ln>
        </p:spPr>
      </p:pic>
      <p:sp>
        <p:nvSpPr>
          <p:cNvPr id="105" name="Line 9"/>
          <p:cNvSpPr/>
          <p:nvPr/>
        </p:nvSpPr>
        <p:spPr>
          <a:xfrm>
            <a:off x="539640" y="4809960"/>
            <a:ext cx="36576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3760" y="895320"/>
            <a:ext cx="558720" cy="23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poS"/>
                <a:ea typeface="Angsana New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1967040" y="885960"/>
            <a:ext cx="2217600" cy="23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poS"/>
                <a:ea typeface="Angsana New"/>
              </a:rPr>
              <a:t>On-site: back-office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187880" y="878040"/>
            <a:ext cx="480960" cy="466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poS"/>
                <a:ea typeface="Angsana New"/>
              </a:rPr>
              <a:t>S&amp;M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579600" y="887400"/>
            <a:ext cx="1376280" cy="466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poS"/>
                <a:ea typeface="Angsana New"/>
              </a:rPr>
              <a:t>Off-site/MPC 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7334280" y="882720"/>
            <a:ext cx="1809720" cy="237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poS"/>
                <a:ea typeface="PMingLiU"/>
              </a:rPr>
              <a:t>Basic Bonus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grpSp>
        <p:nvGrpSpPr>
          <p:cNvPr id="111" name="Group 15"/>
          <p:cNvGrpSpPr/>
          <p:nvPr/>
        </p:nvGrpSpPr>
        <p:grpSpPr>
          <a:xfrm>
            <a:off x="173160" y="1312920"/>
            <a:ext cx="8751240" cy="312840"/>
            <a:chOff x="173160" y="1312920"/>
            <a:chExt cx="8751240" cy="312840"/>
          </a:xfrm>
        </p:grpSpPr>
        <p:sp>
          <p:nvSpPr>
            <p:cNvPr id="112" name="Text Box 16"/>
            <p:cNvSpPr/>
            <p:nvPr/>
          </p:nvSpPr>
          <p:spPr>
            <a:xfrm>
              <a:off x="179280" y="1581120"/>
              <a:ext cx="4106520" cy="44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" bIns="-1080" anchor="t">
              <a:noAutofit/>
            </a:bodyPr>
            <a:p>
              <a:pPr algn="ctr">
                <a:tabLst>
                  <a:tab algn="l" pos="0"/>
                  <a:tab algn="l" pos="28908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  <a:tab algn="l" pos="400068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rpoS"/>
              </a:endParaRPr>
            </a:p>
          </p:txBody>
        </p:sp>
        <p:sp>
          <p:nvSpPr>
            <p:cNvPr id="113" name="Text Box 17"/>
            <p:cNvSpPr/>
            <p:nvPr/>
          </p:nvSpPr>
          <p:spPr>
            <a:xfrm>
              <a:off x="173160" y="1312920"/>
              <a:ext cx="411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28908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  <a:tab algn="l" pos="400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poS"/>
                  <a:ea typeface="PMingLiU"/>
                </a:rPr>
                <a:t>Measurement Criteria</a:t>
              </a:r>
              <a:endParaRPr b="0" lang="en-US" sz="1400" spc="-1" strike="noStrike">
                <a:solidFill>
                  <a:srgbClr val="000000"/>
                </a:solidFill>
                <a:latin typeface="CorpoS"/>
              </a:endParaRPr>
            </a:p>
          </p:txBody>
        </p:sp>
        <p:sp>
          <p:nvSpPr>
            <p:cNvPr id="114" name="Text Box 18"/>
            <p:cNvSpPr/>
            <p:nvPr/>
          </p:nvSpPr>
          <p:spPr>
            <a:xfrm>
              <a:off x="4508280" y="1312920"/>
              <a:ext cx="4416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28908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  <a:tab algn="l" pos="400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poS"/>
                  <a:ea typeface="PMingLiU"/>
                </a:rPr>
                <a:t>Additional Information</a:t>
              </a:r>
              <a:endParaRPr b="0" lang="en-US" sz="1400" spc="-1" strike="noStrike">
                <a:solidFill>
                  <a:srgbClr val="000000"/>
                </a:solidFill>
                <a:latin typeface="CorpoS"/>
              </a:endParaRPr>
            </a:p>
          </p:txBody>
        </p:sp>
        <p:sp>
          <p:nvSpPr>
            <p:cNvPr id="115" name="Text Box 19"/>
            <p:cNvSpPr/>
            <p:nvPr/>
          </p:nvSpPr>
          <p:spPr>
            <a:xfrm>
              <a:off x="4457520" y="1581120"/>
              <a:ext cx="4466880" cy="44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" bIns="-1080" anchor="t">
              <a:noAutofit/>
            </a:bodyPr>
            <a:p>
              <a:pPr algn="ctr">
                <a:tabLst>
                  <a:tab algn="l" pos="0"/>
                  <a:tab algn="l" pos="28908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  <a:tab algn="l" pos="400068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rpoS"/>
              </a:endParaRPr>
            </a:p>
          </p:txBody>
        </p:sp>
      </p:grpSp>
      <p:sp>
        <p:nvSpPr>
          <p:cNvPr id="116" name="Line 20"/>
          <p:cNvSpPr/>
          <p:nvPr/>
        </p:nvSpPr>
        <p:spPr>
          <a:xfrm>
            <a:off x="163440" y="4654440"/>
            <a:ext cx="4048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73080" y="6616800"/>
            <a:ext cx="2552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rpoS"/>
              </a:rPr>
              <a:t>Dealership Standards Handbook 2012</a:t>
            </a:r>
            <a:endParaRPr b="0" lang="en-US" sz="1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3605040" y="6622920"/>
            <a:ext cx="2435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poS"/>
                <a:ea typeface="Angsana New"/>
              </a:rPr>
              <a:t>Page: </a:t>
            </a:r>
            <a:fld id="{830FB438-55C4-4381-AD76-9D4B47B084C1}" type="slidenum">
              <a:rPr b="0" lang="en-US" sz="1000" spc="-1" strike="noStrike">
                <a:solidFill>
                  <a:srgbClr val="000000"/>
                </a:solidFill>
                <a:latin typeface="CorpoS"/>
                <a:ea typeface="Angsana New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CorpoS"/>
                <a:ea typeface="Angsana New"/>
              </a:rPr>
              <a:t> of 109</a:t>
            </a:r>
            <a:endParaRPr b="0" lang="en-US" sz="1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4081320" y="114480"/>
            <a:ext cx="48085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rpoS"/>
                <a:ea typeface="PMingLiU"/>
              </a:rPr>
              <a:t>F 2.1 Used Vehicle Business 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47680" y="1681200"/>
            <a:ext cx="3664080" cy="28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1) </a:t>
            </a:r>
            <a:r>
              <a:rPr b="1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Used vehicle business must follow ProvenExclusivity standard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2)</a:t>
            </a:r>
            <a:r>
              <a:rPr b="1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Process of evaluation of used vehicles as defined by MBTh is in place and available to the customers.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buClr>
                <a:srgbClr val="ff3300"/>
              </a:buClr>
              <a:buFont typeface="Corpo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Used car process report ( Buying ans selling ) is submitted to MBTh according to requirement via website (www.Benzproven.com)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4)        Each outlet has an officially assigned  specific ProvenExclusivity responsible person.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211640" y="1663560"/>
            <a:ext cx="474192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Note:  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Each dealer must have used car business from 2013 onwards.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Standard is considered fulfill until PE business started.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Check following items: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1. Marketing Tools (e.g. light box, registration plate, &amp; price tag)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2. Condition of Vehicles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Randomly check visual condition of 2 displayed vehicles as follow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- All displayed vehicle clean e.g. interior, exterior, and engine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  compartment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- Fuel at least ½ tank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- No malfunction message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- No service interval reminder shown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- Can start promptly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- Age of PE vehicle must be less than 8 years and mileage is not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  exceed 150,000 km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3.  Used cars sales license </a:t>
            </a:r>
            <a:r>
              <a:rPr b="0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Check completed used vehicle evaluation forms and multipoint check list.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	</a:t>
            </a:r>
            <a:r>
              <a:rPr b="0" i="1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            </a:t>
            </a:r>
            <a:r>
              <a:rPr b="0" i="1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See file F2.1_ Evaluation form and multipoint check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	</a:t>
            </a:r>
            <a:r>
              <a:rPr b="0" i="1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            </a:t>
            </a:r>
            <a:r>
              <a:rPr b="0" i="1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See file F2.1_ ProvenExclusivity standard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rpoS"/>
                <a:ea typeface="PMingLiU"/>
              </a:rPr>
              <a:t>3)           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  <a:ea typeface="PMingLiU"/>
              </a:rPr>
              <a:t>Demonstrate car which are allowed for sale and ProvenExclusivity vehicle must be report into webs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www.Benzproven.com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  <a:ea typeface="PMingLiU"/>
              </a:rPr>
              <a:t>follow standard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533520" indent="-533520">
              <a:lnSpc>
                <a:spcPct val="85000"/>
              </a:lnSpc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4) 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Note: 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PE responsible person can be the same as sales manager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        one in sale team.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4859280" y="4869000"/>
            <a:ext cx="270000" cy="2635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79280" y="4581360"/>
            <a:ext cx="26560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87480" indent="-87480"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Dealership to prepare in advance: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  <a:p>
            <a:pPr marL="87480" indent="-87480"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- Used vehicle evaluation fo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- Multipoint check lis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- Organization chart, Jo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      description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79280" y="5724360"/>
            <a:ext cx="2576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87480" indent="-87480"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MBTh to prepare in advanc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- Provide information if used c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rpoS"/>
                <a:ea typeface="PMingLiU"/>
              </a:rPr>
              <a:t>          retail report is submitted .  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0" y="4437000"/>
            <a:ext cx="3924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3480" y="905040"/>
            <a:ext cx="558720" cy="23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poS"/>
                <a:ea typeface="Angsana New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986120" y="895320"/>
            <a:ext cx="2217600" cy="23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poS"/>
                <a:ea typeface="Angsana New"/>
              </a:rPr>
              <a:t>On-site: back-office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4210200" y="896760"/>
            <a:ext cx="480960" cy="466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poS"/>
                <a:ea typeface="Angsana New"/>
              </a:rPr>
              <a:t>S&amp;M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17400" y="896760"/>
            <a:ext cx="1376640" cy="466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poS"/>
                <a:ea typeface="Angsana New"/>
              </a:rPr>
              <a:t>Off-site/MPC 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7334280" y="892080"/>
            <a:ext cx="1809720" cy="238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poS"/>
                <a:ea typeface="PMingLiU"/>
              </a:rPr>
              <a:t>Basic Bonus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grpSp>
        <p:nvGrpSpPr>
          <p:cNvPr id="131" name="Group 15"/>
          <p:cNvGrpSpPr/>
          <p:nvPr/>
        </p:nvGrpSpPr>
        <p:grpSpPr>
          <a:xfrm>
            <a:off x="163440" y="1224000"/>
            <a:ext cx="8280360" cy="304920"/>
            <a:chOff x="163440" y="1224000"/>
            <a:chExt cx="8280360" cy="304920"/>
          </a:xfrm>
        </p:grpSpPr>
        <p:sp>
          <p:nvSpPr>
            <p:cNvPr id="132" name="Text Box 16"/>
            <p:cNvSpPr/>
            <p:nvPr/>
          </p:nvSpPr>
          <p:spPr>
            <a:xfrm>
              <a:off x="169920" y="1481400"/>
              <a:ext cx="4025880" cy="42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00" bIns="-3600" anchor="t">
              <a:noAutofit/>
            </a:bodyPr>
            <a:p>
              <a:pPr algn="ctr">
                <a:tabLst>
                  <a:tab algn="l" pos="0"/>
                  <a:tab algn="l" pos="28908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  <a:tab algn="l" pos="400068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rpoS"/>
              </a:endParaRPr>
            </a:p>
          </p:txBody>
        </p:sp>
        <p:sp>
          <p:nvSpPr>
            <p:cNvPr id="133" name="Text Box 17"/>
            <p:cNvSpPr/>
            <p:nvPr/>
          </p:nvSpPr>
          <p:spPr>
            <a:xfrm>
              <a:off x="163440" y="1224000"/>
              <a:ext cx="4032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28908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  <a:tab algn="l" pos="400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poS"/>
                  <a:ea typeface="PMingLiU"/>
                </a:rPr>
                <a:t>Measurement Criteria</a:t>
              </a:r>
              <a:endParaRPr b="0" lang="en-US" sz="1400" spc="-1" strike="noStrike">
                <a:solidFill>
                  <a:srgbClr val="000000"/>
                </a:solidFill>
                <a:latin typeface="CorpoS"/>
              </a:endParaRPr>
            </a:p>
          </p:txBody>
        </p:sp>
        <p:sp>
          <p:nvSpPr>
            <p:cNvPr id="134" name="Text Box 18"/>
            <p:cNvSpPr/>
            <p:nvPr/>
          </p:nvSpPr>
          <p:spPr>
            <a:xfrm>
              <a:off x="4414680" y="1224000"/>
              <a:ext cx="3961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28908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  <a:tab algn="l" pos="400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poS"/>
                  <a:ea typeface="PMingLiU"/>
                </a:rPr>
                <a:t>Additional Information</a:t>
              </a:r>
              <a:endParaRPr b="0" lang="en-US" sz="1400" spc="-1" strike="noStrike">
                <a:solidFill>
                  <a:srgbClr val="000000"/>
                </a:solidFill>
                <a:latin typeface="CorpoS"/>
              </a:endParaRPr>
            </a:p>
          </p:txBody>
        </p:sp>
        <p:sp>
          <p:nvSpPr>
            <p:cNvPr id="135" name="Text Box 19"/>
            <p:cNvSpPr/>
            <p:nvPr/>
          </p:nvSpPr>
          <p:spPr>
            <a:xfrm>
              <a:off x="4414680" y="1481400"/>
              <a:ext cx="4029120" cy="4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00" bIns="-3600" anchor="t">
              <a:noAutofit/>
            </a:bodyPr>
            <a:p>
              <a:pPr algn="ctr">
                <a:tabLst>
                  <a:tab algn="l" pos="0"/>
                  <a:tab algn="l" pos="28908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  <a:tab algn="l" pos="400068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rpoS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94280" y="458640"/>
            <a:ext cx="5370480" cy="309600"/>
          </a:xfrm>
          <a:prstGeom prst="rect">
            <a:avLst/>
          </a:prstGeom>
          <a:noFill/>
          <a:ln w="0">
            <a:noFill/>
          </a:ln>
        </p:spPr>
        <p:txBody>
          <a:bodyPr lIns="0" tIns="1260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poS"/>
                <a:ea typeface="PMingLiU"/>
              </a:rPr>
              <a:t>Each dealership must have used vehicle business.</a:t>
            </a:r>
            <a:endParaRPr b="0" lang="en-US" sz="1800" spc="-1" strike="noStrike">
              <a:solidFill>
                <a:srgbClr val="333333"/>
              </a:solidFill>
              <a:latin typeface="Corpo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0280" y="144756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0" tIns="1260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CorpoA"/>
              </a:rPr>
              <a:t>Back Up</a:t>
            </a:r>
            <a:endParaRPr b="0" lang="en-US" sz="30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73080" y="6616800"/>
            <a:ext cx="2552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rpoS"/>
              </a:rPr>
              <a:t>Dealership Standards Handbook 2012</a:t>
            </a:r>
            <a:endParaRPr b="0" lang="en-US" sz="1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3605040" y="6622920"/>
            <a:ext cx="2435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poS"/>
                <a:ea typeface="Angsana New"/>
              </a:rPr>
              <a:t>Page: </a:t>
            </a:r>
            <a:fld id="{768680C8-90EA-4400-AA89-71DFF687585C}" type="slidenum">
              <a:rPr b="0" lang="en-US" sz="1000" spc="-1" strike="noStrike">
                <a:solidFill>
                  <a:srgbClr val="000000"/>
                </a:solidFill>
                <a:latin typeface="CorpoS"/>
                <a:ea typeface="Angsana New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CorpoS"/>
                <a:ea typeface="Angsana New"/>
              </a:rPr>
              <a:t> of 109</a:t>
            </a:r>
            <a:endParaRPr b="0" lang="en-US" sz="1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9:28:58Z</dcterms:created>
  <dc:creator>AK</dc:creator>
  <dc:description/>
  <dc:language>en-US</dc:language>
  <cp:lastModifiedBy>Iamsuksaeng, Mongkol (118)</cp:lastModifiedBy>
  <cp:lastPrinted>2012-09-07T04:02:31Z</cp:lastPrinted>
  <dcterms:modified xsi:type="dcterms:W3CDTF">2012-09-13T11:31:26Z</dcterms:modified>
  <cp:revision>64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